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Kepler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36F-2A9A-4829-B09B-B24091120A8E}" type="slidenum">
              <a:rPr b="0" lang="en-US" sz="1200" spc="-1" strike="noStrike">
                <a:solidFill>
                  <a:srgbClr val="000000"/>
                </a:solidFill>
                <a:latin typeface="Kepler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1BC0-8F0F-4200-BDF6-CE7C99078FD5}" type="slidenum">
              <a:rPr b="0" lang="en-US" sz="1200" spc="-1" strike="noStrike">
                <a:solidFill>
                  <a:srgbClr val="000000"/>
                </a:solidFill>
                <a:latin typeface="Kepler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48E7-B61A-4DAE-A38A-3D8397CE3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9204-65CE-460F-9818-ACF6CD4FB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0E81-348F-4672-978B-0A8F74DFB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4925-C684-4AD5-A305-F36B74398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4175-3B6C-493E-8BB5-5517380D0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DD88-7232-441F-9F87-437583C34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7543-A357-4AB8-A9E0-E15381268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F389-650B-41CF-93CB-4D91BBFEB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D195-E7C2-487B-8A80-3DDA05951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BA37-3F49-4E2E-8EAB-AE967569E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098C-01A5-4E08-9309-21E482EAB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BB75-95F2-4A48-A758-A4AE47701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3251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1" marL="5760" indent="-4320">
              <a:spcBef>
                <a:spcPts val="3251"/>
              </a:spcBef>
              <a:buClr>
                <a:srgbClr val="000000"/>
              </a:buClr>
              <a:buFont typeface="Kepler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2" marL="217440" indent="-210240">
              <a:spcBef>
                <a:spcPts val="3251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3" marL="42912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4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5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6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62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440"/>
            <a:ext cx="1233360" cy="68565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40044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4A8-B2F7-408E-BCB7-3647F34511B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30"/>
          <p:cNvSpPr/>
          <p:nvPr/>
        </p:nvSpPr>
        <p:spPr>
          <a:xfrm>
            <a:off x="0" y="1440"/>
            <a:ext cx="7807320" cy="50277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3251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1" marL="5760" indent="-4320">
              <a:spcBef>
                <a:spcPts val="3251"/>
              </a:spcBef>
              <a:buClr>
                <a:srgbClr val="000000"/>
              </a:buClr>
              <a:buFont typeface="Kepler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2" marL="217440" indent="-210240">
              <a:spcBef>
                <a:spcPts val="3251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3" marL="42912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4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5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6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571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2880"/>
            <a:ext cx="5754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roduction to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WII</a:t>
            </a:r>
            <a:endParaRPr b="0" lang="en-US" sz="5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6745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Cost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marL="5144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Cause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marL="5144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90" name="Picture 12" descr="C:\Documents and Settings\elyssa\Desktop\wwii\rosie.jpeg"/>
          <p:cNvPicPr/>
          <p:nvPr/>
        </p:nvPicPr>
        <p:blipFill>
          <a:blip r:embed="rId1"/>
          <a:stretch/>
        </p:blipFill>
        <p:spPr>
          <a:xfrm>
            <a:off x="4267080" y="1676520"/>
            <a:ext cx="37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9922-4716-4D61-9B36-D052E011A119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 (underlying causes of WWII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94160" y="127332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1. Treaty of Versaille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334120" y="18288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A. Germany lost land to surrounding nations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334120" y="2590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B. War Reparations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791320" y="3124080"/>
            <a:ext cx="3124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) Allies collect $ to pay back  war debts to U.S.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2) Germany must pay $57 trillion (modern equivalent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3) Bankrupted the German economy &amp; embarrassed Germans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67" name="Picture 14" descr="C:\Documents and Settings\elyssa\Desktop\wwii\versailles.jpeg"/>
          <p:cNvPicPr/>
          <p:nvPr/>
        </p:nvPicPr>
        <p:blipFill>
          <a:blip r:embed="rId1"/>
          <a:stretch/>
        </p:blipFill>
        <p:spPr>
          <a:xfrm>
            <a:off x="304920" y="1143000"/>
            <a:ext cx="4020840" cy="5106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124560" y="6339240"/>
            <a:ext cx="5052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eplerRegular"/>
              </a:rPr>
              <a:t>Lloyd George, Georges Clemenceau, and Woodrow Wil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KeplerRegular"/>
              </a:rPr>
              <a:t>during negotiations for the Treaty</a:t>
            </a:r>
            <a:endParaRPr b="0" lang="en-US" sz="1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24A4-3E63-4D97-A792-AFC25D11857F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 (underlying causes of WWII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394160" y="127332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2. World-wide Depressio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029200" y="1828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A. The Depression made Germany’s debt even  worse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029200" y="3124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B. Desperate people turn to desperate leaders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715000" y="44197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1) Hitler seemed to provide solutions to Germany’s probl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75" name="Picture 11" descr="C:\Documents and Settings\elyssa\Desktop\wwii\wallpaper.jpeg"/>
          <p:cNvPicPr/>
          <p:nvPr/>
        </p:nvPicPr>
        <p:blipFill>
          <a:blip r:embed="rId1"/>
          <a:stretch/>
        </p:blipFill>
        <p:spPr>
          <a:xfrm>
            <a:off x="533520" y="1295280"/>
            <a:ext cx="3898800" cy="5257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477000" y="6521040"/>
            <a:ext cx="47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92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Wallpapering with German Deutchmarks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C95-67D9-48A3-AF1C-2259E5EED12D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 (underlying causes of WWII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394160" y="127332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2. World-wide Depressio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638680" y="2057400"/>
            <a:ext cx="3124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2) Hitler provided </a:t>
            </a:r>
            <a:r>
              <a:rPr b="1" lang="en-US" sz="2400" spc="-1" strike="noStrike">
                <a:solidFill>
                  <a:srgbClr val="0038a8"/>
                </a:solidFill>
                <a:latin typeface="FrutigerBold"/>
              </a:rPr>
              <a:t>scapegoats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for Germany’s problems (foreigners, Jews, communists, Roma (Gypsies), mentally il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3)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Kristallnacht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vandalism &amp; destruction of Jewish property &amp; synagogues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81" name="Picture 9" descr="C:\Documents and Settings\elyssa\Desktop\WWI\kristallnacht.jpeg"/>
          <p:cNvPicPr/>
          <p:nvPr/>
        </p:nvPicPr>
        <p:blipFill>
          <a:blip r:embed="rId1"/>
          <a:srcRect l="22500" t="0" r="0" b="0"/>
          <a:stretch/>
        </p:blipFill>
        <p:spPr>
          <a:xfrm>
            <a:off x="228600" y="2057400"/>
            <a:ext cx="43909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CCFE-9107-497E-A16D-F699E22E5C08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3.  Rise of Totalitarian Regime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057400" y="1828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A.  In a </a:t>
            </a:r>
            <a:r>
              <a:rPr b="0" lang="en-US" sz="2000" spc="-1" strike="noStrike" u="sng">
                <a:solidFill>
                  <a:srgbClr val="0038a8"/>
                </a:solidFill>
                <a:uFillTx/>
                <a:latin typeface="FrutigerBold"/>
              </a:rPr>
              <a:t>Totalitarian</a:t>
            </a: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 country, individual rights are not viewed as important as the needs of the nation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809880" y="3505320"/>
            <a:ext cx="2133720" cy="1676160"/>
          </a:xfrm>
          <a:prstGeom prst="octagon">
            <a:avLst>
              <a:gd name="adj" fmla="val 29287"/>
            </a:avLst>
          </a:prstGeom>
          <a:solidFill>
            <a:srgbClr val="003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886200" y="4114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Bold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49528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295280" y="2743200"/>
            <a:ext cx="2362320" cy="1008720"/>
          </a:xfrm>
          <a:prstGeom prst="rect">
            <a:avLst/>
          </a:prstGeom>
          <a:solidFill>
            <a:srgbClr val="c41e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Bold"/>
              </a:rPr>
              <a:t>Communist Dictatorship (USSR)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6172200" y="2819520"/>
            <a:ext cx="2362320" cy="1008720"/>
          </a:xfrm>
          <a:prstGeom prst="rect">
            <a:avLst/>
          </a:prstGeom>
          <a:solidFill>
            <a:srgbClr val="f9a7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Fascist Dictatorship (Germany, Italy)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3809880" y="5715000"/>
            <a:ext cx="2362320" cy="1008720"/>
          </a:xfrm>
          <a:prstGeom prst="rect">
            <a:avLst/>
          </a:prstGeom>
          <a:solidFill>
            <a:srgbClr val="6709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Bold"/>
              </a:rPr>
              <a:t>Military Dictatorship (Japan)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3657240" y="3580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5791320" y="3580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6172200" y="3962520"/>
            <a:ext cx="2438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8a8"/>
                </a:solidFill>
                <a:uFillTx/>
                <a:latin typeface="FrutigerBold"/>
              </a:rPr>
              <a:t>Fascism</a:t>
            </a:r>
            <a:r>
              <a:rPr b="1" i="1" lang="en-US" sz="1600" spc="-1" strike="noStrike">
                <a:solidFill>
                  <a:srgbClr val="0038a8"/>
                </a:solidFill>
                <a:latin typeface="FrutigerBold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FrutigerBold"/>
              </a:rPr>
              <a:t> military government with based on racism &amp; nationalism with strong support from the business community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1628-E0E5-4CF3-B9FE-A664ECF6D5A2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4.  Isolationism of Major Power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981080" y="160020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.  Why was the U.S. Isolationist?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1.  Great Depression (problems at home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2.  Perceptions of WWI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819520" y="3276720"/>
            <a:ext cx="5867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.  WWI did not seem to solve much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.  People began to think that we’d got into WWI for the wrong reasons  (greedy American businessmen!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366-1047-4D97-810D-7E0BBEF5445D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4.  Isolationism of Major Power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895480" y="365760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9810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3.  Opposition to war (Pacifism)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666880" y="2590920"/>
            <a:ext cx="5867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FrutigerBold"/>
              </a:rPr>
              <a:t>Washington Conference</a:t>
            </a: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 -  Limits on size of country's navies 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FrutigerBold"/>
              </a:rPr>
              <a:t>Kellogg-Briand pact - </a:t>
            </a: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condemned war as a way to solving conflicts 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DD5-15A7-41E9-8061-CE428CAF2F20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4.  Isolationism of Major Power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828800" y="1905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.  This led to policies of “Appeasement” 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362320" y="2360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1. </a:t>
            </a:r>
            <a:r>
              <a:rPr b="1" lang="en-US" sz="2400" spc="-1" strike="noStrike" u="sng">
                <a:solidFill>
                  <a:srgbClr val="0038a8"/>
                </a:solidFill>
                <a:uFillTx/>
                <a:latin typeface="FrutigerBold"/>
              </a:rPr>
              <a:t>Appeasement</a:t>
            </a:r>
            <a:r>
              <a:rPr b="1" lang="en-US" sz="2400" spc="-1" strike="noStrike">
                <a:solidFill>
                  <a:srgbClr val="0038a8"/>
                </a:solidFill>
                <a:latin typeface="FrutigerBold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give dictators what they want and hope that they won’t want anything else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895480" y="365760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438280" y="36252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2.  Begins with Japanese invasion of Manchuria, Italian invasion of Ethiopia, and continues with Hitler . . .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520-6CBC-406B-B439-E5D9D71C3514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So What Was Hitler Asking Fo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Return of German Speaking Lands - “</a:t>
            </a:r>
            <a:r>
              <a:rPr b="1" lang="en-US" sz="2200" spc="-1" strike="noStrike">
                <a:solidFill>
                  <a:srgbClr val="000000"/>
                </a:solidFill>
                <a:latin typeface="FrutigerBold"/>
              </a:rPr>
              <a:t>Lebensraum</a:t>
            </a: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943600" y="3048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ustria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Peacefully Annexed in 1938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17" name="Picture 6" descr="C:\Documents and Settings\elyssa\Desktop\wwii\czech2.jpeg"/>
          <p:cNvPicPr/>
          <p:nvPr/>
        </p:nvPicPr>
        <p:blipFill>
          <a:blip r:embed="rId1"/>
          <a:stretch/>
        </p:blipFill>
        <p:spPr>
          <a:xfrm>
            <a:off x="304920" y="1676520"/>
            <a:ext cx="5511600" cy="4056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295280" y="579132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German Troops Parade in Streets of Czechoslovakian Town, ca. 1939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C1F0-5239-4AA8-B005-80B6D7C8FDD1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So What Was Hitler Asking Fo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Return of German Speaking Lands - “</a:t>
            </a:r>
            <a:r>
              <a:rPr b="1" lang="en-US" sz="2200" spc="-1" strike="noStrike">
                <a:solidFill>
                  <a:srgbClr val="000000"/>
                </a:solidFill>
                <a:latin typeface="FrutigerBold"/>
              </a:rPr>
              <a:t>Lebensraum</a:t>
            </a: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867280" y="1676520"/>
            <a:ext cx="30481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Sudentenland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(now part of Czech Republic)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Munich Conference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Great Britain &amp; France give to Hitler in return for peace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Hitler then invades the rest of Czechoslovakia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23" name="Picture 6" descr="C:\Documents and Settings\elyssa\Desktop\wwii\czech2.jpeg"/>
          <p:cNvPicPr/>
          <p:nvPr/>
        </p:nvPicPr>
        <p:blipFill>
          <a:blip r:embed="rId1"/>
          <a:stretch/>
        </p:blipFill>
        <p:spPr>
          <a:xfrm>
            <a:off x="304920" y="1676520"/>
            <a:ext cx="5511600" cy="4056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1295280" y="579132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German Troops Parade in Streets of Czechoslovakian Town, ca. 1939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60F-0091-4152-965E-23DE763B3D1E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So What Was Hitler Asking Fo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Return of German Speaking Land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943600" y="167652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Nonaggression Pact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Russia stays out of the war in return for 1/2 of Poland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19320" y="518148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Hitler's triumphal entry into Danzig, Poland 1939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30" name="Picture 8" descr="C:\Documents and Settings\elyssa\Desktop\wwii\hitlerpoland.jpeg"/>
          <p:cNvPicPr/>
          <p:nvPr/>
        </p:nvPicPr>
        <p:blipFill>
          <a:blip r:embed="rId1"/>
          <a:stretch/>
        </p:blipFill>
        <p:spPr>
          <a:xfrm>
            <a:off x="228600" y="1676520"/>
            <a:ext cx="5715000" cy="3340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5943600" y="37339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Great Britain &amp; France finally declare war on Germany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DAEB-2418-401B-A8CB-20DE5A66BBBE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Quick Facts (write 2-3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6800" y="1119240"/>
            <a:ext cx="27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140"/>
                </a:solidFill>
                <a:latin typeface="FrutigerBold"/>
              </a:rPr>
              <a:t>A. War Costs</a:t>
            </a:r>
            <a:endParaRPr b="0" lang="en-US" sz="3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209680" y="1752480"/>
            <a:ext cx="6400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FrutigerBold"/>
              <a:buAutoNum type="arabicPeriod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Debt 1940 - $9 bill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Debt 1945 - $98 billion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marL="457200" indent="-457200">
              <a:buClr>
                <a:srgbClr val="000000"/>
              </a:buClr>
              <a:buFont typeface="FrutigerBold"/>
              <a:buAutoNum type="arabicPeriod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286000" y="2666880"/>
            <a:ext cx="5791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The war cost $330 billion 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FrutigerBold"/>
              </a:rPr>
              <a:t>10 times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the cost of WWI &amp; as much as </a:t>
            </a:r>
            <a:r>
              <a:rPr b="0" i="1" lang="en-US" sz="2400" spc="-1" strike="noStrike">
                <a:solidFill>
                  <a:srgbClr val="000000"/>
                </a:solidFill>
                <a:latin typeface="FrutigerBold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previous federal spending since 1776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marL="404640" indent="-404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6668-FAAF-44CB-9095-A7DE727C1AD7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How Did Hitler Make Wa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Blitzkrieg “Lightning War”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095880" y="1752480"/>
            <a:ext cx="3048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In the next year, Hitler invade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The Netherlands,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France 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600200" y="62485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Hitler in Paris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37" name="Picture 9" descr="C:\Documents and Settings\elyssa\Desktop\wwii\hitlerfrance.jpeg"/>
          <p:cNvPicPr/>
          <p:nvPr/>
        </p:nvPicPr>
        <p:blipFill>
          <a:blip r:embed="rId1"/>
          <a:srcRect l="0" t="15000" r="0" b="0"/>
          <a:stretch/>
        </p:blipFill>
        <p:spPr>
          <a:xfrm>
            <a:off x="1981080" y="1676520"/>
            <a:ext cx="3792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BD07-61CE-4931-A38F-38811553D93B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8a8"/>
                </a:solidFill>
                <a:latin typeface="FrutigerBold"/>
              </a:rPr>
              <a:t>US Assistance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Roosevelt provided aid to the Allies: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419720" y="17524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Lend-Lease - 1939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105520" y="2286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 “lent” war materials to cash-strapped Great Britain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43" name="Picture 8" descr="C:\Documents and Settings\elyssa\Desktop\wwii\londonfirefighter.jpeg"/>
          <p:cNvPicPr/>
          <p:nvPr/>
        </p:nvPicPr>
        <p:blipFill>
          <a:blip r:embed="rId1"/>
          <a:stretch/>
        </p:blipFill>
        <p:spPr>
          <a:xfrm>
            <a:off x="838080" y="1752480"/>
            <a:ext cx="3517920" cy="44211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295280" y="632448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eplerRegular"/>
              </a:rPr>
              <a:t>London Firefighter Tackles an Air Raid Blaze</a:t>
            </a:r>
            <a:endParaRPr b="0" lang="en-US" sz="1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91080" y="40384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tlantic Charter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276880" y="4572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 secretly meets with England to commit to  defeating Germany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91E9-5B9C-457B-809F-03E2D123D32E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8a8"/>
                </a:solidFill>
                <a:latin typeface="FrutigerBold"/>
              </a:rPr>
              <a:t>Meanwhile … in the Pacific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Pearl Harbor: “a date which will live in infamy”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295280" y="55627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USS Arizona Sinking in Pearl Harbor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724280" y="1752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334120" y="228600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Surprise attack by the Japanese on American forces in Pearl Harbor, Hawaii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46483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Effect?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5105520" y="4724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declares war on Japan &amp; other Axis powers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55" name="Picture 15" descr="C:\Documents and Settings\elyssa\Desktop\wwii\pearl2.jpeg"/>
          <p:cNvPicPr/>
          <p:nvPr/>
        </p:nvPicPr>
        <p:blipFill>
          <a:blip r:embed="rId1"/>
          <a:stretch/>
        </p:blipFill>
        <p:spPr>
          <a:xfrm>
            <a:off x="152280" y="1752480"/>
            <a:ext cx="4496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9546-2AD9-49BC-92FC-BD9EF30BF0D9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Quick Facts (write 2-3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8" name="Text Box 2053"/>
          <p:cNvSpPr/>
          <p:nvPr/>
        </p:nvSpPr>
        <p:spPr>
          <a:xfrm>
            <a:off x="1676520" y="1219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140"/>
                </a:solidFill>
                <a:latin typeface="FrutigerBold"/>
              </a:rPr>
              <a:t>B. Human Costs</a:t>
            </a:r>
            <a:endParaRPr b="0" lang="en-US" sz="32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99" name="Picture 2056" descr="E:\Work\ETHS\US Hist 1 Lvl\14. WWII\GraphHumanCosts.jpg"/>
          <p:cNvPicPr/>
          <p:nvPr/>
        </p:nvPicPr>
        <p:blipFill>
          <a:blip r:embed="rId1"/>
          <a:stretch/>
        </p:blipFill>
        <p:spPr>
          <a:xfrm>
            <a:off x="1523880" y="1066680"/>
            <a:ext cx="7418520" cy="5618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59"/>
          <p:cNvSpPr/>
          <p:nvPr/>
        </p:nvSpPr>
        <p:spPr>
          <a:xfrm>
            <a:off x="1905120" y="5791320"/>
            <a:ext cx="6858000" cy="380880"/>
          </a:xfrm>
          <a:prstGeom prst="flowChartProcess">
            <a:avLst/>
          </a:prstGeom>
          <a:noFill/>
          <a:ln w="25560">
            <a:solidFill>
              <a:srgbClr val="003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1" name="AutoShape 2060"/>
          <p:cNvSpPr/>
          <p:nvPr/>
        </p:nvSpPr>
        <p:spPr>
          <a:xfrm>
            <a:off x="1828800" y="3657600"/>
            <a:ext cx="6858000" cy="228600"/>
          </a:xfrm>
          <a:prstGeom prst="flowChartProcess">
            <a:avLst/>
          </a:prstGeom>
          <a:noFill/>
          <a:ln w="25560">
            <a:solidFill>
              <a:srgbClr val="003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EC1-5C6D-4E79-80F8-8C2C0862D22F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Quick Facts (write 2-3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676520" y="1219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140"/>
                </a:solidFill>
                <a:latin typeface="FrutigerBold"/>
              </a:rPr>
              <a:t>B. Human Costs</a:t>
            </a:r>
            <a:endParaRPr b="0" lang="en-US" sz="3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232000" y="17240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FrutigerBold"/>
              <a:buAutoNum type="arabicPeriod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FrutigerBold"/>
              </a:rPr>
              <a:t>50 million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people died (compared to 15 million in WW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29840" y="258984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39840" indent="-339840"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21.3 million Russians (7.7 million civilians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255760" y="3289320"/>
            <a:ext cx="69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39840" indent="-339840"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11 million died as a result of the HOLOCA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(6 million Jews + 5 million others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8F8-E50C-4B31-B6E7-D343B99A4E5A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When?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90512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220968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5156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939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1295280" y="4292640"/>
            <a:ext cx="1295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Sept.1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- Germany invades Poland (official start to the war</a:t>
            </a:r>
            <a:r>
              <a:rPr b="0" lang="en-US" sz="1600" spc="-1" strike="noStrike">
                <a:solidFill>
                  <a:srgbClr val="000000"/>
                </a:solidFill>
                <a:latin typeface="FrutigerBol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434340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590920" y="4267080"/>
            <a:ext cx="12952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Sept. 3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-Britain &amp; France declare war on Germany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1371600" y="33526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7" name="Line 34"/>
          <p:cNvSpPr/>
          <p:nvPr/>
        </p:nvSpPr>
        <p:spPr>
          <a:xfrm flipH="1" flipV="1">
            <a:off x="2285640" y="4038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8" name="Line 35"/>
          <p:cNvSpPr/>
          <p:nvPr/>
        </p:nvSpPr>
        <p:spPr>
          <a:xfrm>
            <a:off x="845820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3886200" y="4267080"/>
            <a:ext cx="1600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Dec. 7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– Japan bombs Pearl Harbor; US enters the War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954240" y="26668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941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792468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477120" y="4267080"/>
            <a:ext cx="129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May 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- Germans Surrender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7848720" y="4267080"/>
            <a:ext cx="12952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Sept.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- Atomic Bombing of Hiroshima &amp; Nagasaki, Japanese Surrender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7535520" y="26668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945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5" name="Line 43"/>
          <p:cNvSpPr/>
          <p:nvPr/>
        </p:nvSpPr>
        <p:spPr>
          <a:xfrm flipV="1">
            <a:off x="7162920" y="40381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7652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1939-1945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involvement 1941-1945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D58-5F88-42AD-9363-FAB6A372593F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280960" y="129528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2140"/>
                </a:solidFill>
                <a:uFillTx/>
                <a:latin typeface="FrutigerBold"/>
              </a:rPr>
              <a:t>Allies</a:t>
            </a:r>
            <a:endParaRPr b="0" lang="en-US" sz="3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541920" y="126828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2140"/>
                </a:solidFill>
                <a:uFillTx/>
                <a:latin typeface="FrutigerBold"/>
              </a:rPr>
              <a:t>Axis</a:t>
            </a:r>
            <a:endParaRPr b="0" lang="en-US" sz="3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895400" y="2494080"/>
            <a:ext cx="29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325600" y="2971800"/>
            <a:ext cx="178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Greece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Serbia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324480" y="2666880"/>
            <a:ext cx="16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6705720" y="3276720"/>
            <a:ext cx="8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573600" y="4038480"/>
            <a:ext cx="11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716120" y="18464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(major powers)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5334120" y="1905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(major powers)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5029200" y="1143000"/>
            <a:ext cx="0" cy="5105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0452-7A97-4B1D-AC69-38BD47553416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d2140"/>
                </a:solidFill>
                <a:latin typeface="FrutigerBold"/>
              </a:rPr>
              <a:t>Major Leaders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33524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222800" cy="3333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573640" y="1562040"/>
            <a:ext cx="1933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Adolf Hitler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Nazi Germany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057400" y="3484440"/>
            <a:ext cx="2305080" cy="3373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4371840" y="5237280"/>
            <a:ext cx="2715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Benito Mussolini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4533840" y="1003320"/>
            <a:ext cx="1803600" cy="31878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6629400" y="990720"/>
            <a:ext cx="1803240" cy="318744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3B87-02AD-4314-8C4F-626015FD091C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d2140"/>
                </a:solidFill>
                <a:latin typeface="FrutigerBold"/>
              </a:rPr>
              <a:t>Major Leaders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2220840" cy="4078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837240" y="1425600"/>
            <a:ext cx="30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097f"/>
                </a:solidFill>
                <a:latin typeface="FrutigerBold"/>
              </a:rPr>
              <a:t>Hideki Tojo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Japanese Prime Minister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419880" y="3124080"/>
            <a:ext cx="2593800" cy="3503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146400" y="579132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097f"/>
                </a:solidFill>
                <a:latin typeface="FrutigerBold"/>
              </a:rPr>
              <a:t>Winston Churchill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British Prime Minister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5DBC-D924-4462-A724-00A0E950A52D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d2140"/>
                </a:solidFill>
                <a:latin typeface="FrutigerBold"/>
              </a:rPr>
              <a:t>Major Leaders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365760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715000" y="3524400"/>
            <a:ext cx="3429000" cy="3136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446840" y="5867280"/>
            <a:ext cx="4164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Franklin Delano Roosevelt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US President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2057400" cy="2746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952880" y="1400040"/>
            <a:ext cx="2063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Joseph Stalin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Russian Leader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7:15:57Z</dcterms:created>
  <dc:creator>Steffanie Haase</dc:creator>
  <dc:description/>
  <dc:language>en-US</dc:language>
  <cp:lastModifiedBy>spupovac</cp:lastModifiedBy>
  <cp:lastPrinted>1904-01-04T16:00:32Z</cp:lastPrinted>
  <dcterms:modified xsi:type="dcterms:W3CDTF">2011-01-21T17:03:30Z</dcterms:modified>
  <cp:revision>153</cp:revision>
  <dc:subject/>
  <dc:title>PowerPoint Presentation</dc:title>
</cp:coreProperties>
</file>